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3.png" ContentType="image/png"/>
  <Override PartName="/ppt/media/image13.jpeg" ContentType="image/jpeg"/>
  <Override PartName="/ppt/media/image1.png" ContentType="image/png"/>
  <Override PartName="/ppt/media/image3.jpeg" ContentType="image/jpeg"/>
  <Override PartName="/ppt/media/CAMERA.WAV" ContentType="audio/x-wav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4AB9-C7D5-43AB-8EB3-5A1B9B017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D5B8-BD29-4E15-91B9-423C51493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A3CC-F23E-4ECB-A0C2-399B5739E29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0058-FDD1-4A7D-A710-9C70F49508B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ore Americans joined the middle class in the cit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 not forget about the problems of the poor. The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led to an urge to do something about them. This spir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form was known as progressivism. The main area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 was the urban lower cla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6B75-349D-494A-8601-1CDC029859A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3399-94F0-474B-8DD4-5128E6EC701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f the progressives were from the middle and up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, born in America, and educated in college. In colle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f them became aware of the problems caused by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zation of the work force. Students felt maybe th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do something about the problems instead of just enjoy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own l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women were especially interested in the re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of past and present. They saw reform as the only 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uld stop the evils they saw around them. They w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n fields such as medicine, psychology, and soci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woman, Ella Flagg Young, became Chicago’s first wom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ntendent of schools and fought to raise teachers’ sala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man, Rheta Childe Dorr, wrote a book called 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 Million Women Want . This book told what women could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eform effort. All kinds of women’s groups became acti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the General Federation of Women’s Clubs and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Association of Colo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C524-F6CB-43A1-9D8C-923B30687E1F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C3B2-49D9-4CAA-B852-0D7C2451B16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00 most workplaces were hard places to be employed.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day was 10 hours long. For that 10 hours the wor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er $1.50. Women and children had even more difficul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earned even less than $1.50. Sometimes they w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shed for working too fast to try to earn more mo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were put to work so early they could not attend scho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ever learned to read or write. Bosses might throw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faces to keep them awake. Florence Kelley was a reformer who worked against chi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. She was successful in many states. Hours w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for children. Some areas passed laws saying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had to learn reading and writing before being sent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. However, many times these laws were not enforced ve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 Kelley and other reformers also fought for higher wages for all workers. The first minimum-wage law was pass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achusetts in 19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FCB0-FAAD-4AA8-9B35-D051E46B6BF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7021-69B8-479D-9239-9E715F83ADC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leaders often fought back at the new refor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through the courts. The owners claimed that being for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un their commerce a certain way meant they were be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ived of their property, an act forbidden by the Fourteen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ndment. The Supreme Court often agreed with them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d some of the reform laws unconstitutional. Als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09DA-CFBF-4ADB-9558-11688B055FB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D99B-3F87-4B1D-9491-2750065E09E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nwhite people had a whole other set of problems.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ite progressive reformers were basically uninterested i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nwhites or even prejudiced against them. Leaders and refor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oups emerged from within the African American and Americ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an communities. A very influential African Americ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former was W. E. B. Du Bois. He was the first African Americ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earn a degree from Harvard University. He believed i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llege education or vocational training for African American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, with some other progressives, was very influential i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ping to form an important group to end racial discriminatio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was the National Association for the Advancement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lored People (NAACP). Another group, the National Urb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ague, had the same goal and also tried to get bett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pportunities and housing for African American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erican Indians faced the problem of losing their land 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ite land developers and then going into poverty. They we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so torn between the Indian and white culture. Som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essives began to help them stop the theft of their land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ep the reservation system longer. A group of middle-clas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an professional people formed the Society of Americ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ans to deal with their problems. Most of this group wan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completely join white society. Others violently disagreed 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estions like the tribal organization, Indian civil righ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ucation for Indians, and others. The society grew weak fr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fighting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2820-304F-4AD6-9C23-3D47AEEA5A67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C8E6-C186-4906-A8F6-C15281C4330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ckrak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erm coined by TR was a negative one. Based on a literary character who was so busy cleaning and raking up the muck and dirt that he didn't see the good things that were above his hea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incoln Stephens, "The Shame of the Cities" Link between big business and crooked polit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da Tarbell, "History of the Standard Oil Company" published in McClure's Magazine. Described the firms cutthroat methods of eliminating compet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Upton Sinclair, "The Jungle" Detailed the lives stockyard workers and the meat packing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Jacob Riis, "How The Other Half Lives" A book of photographs about the wretched conditions in the cities and slu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95ED-A9FA-4DA3-8305-99208D7D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AEC-BB9B-4BF3-9A50-F3446A23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490-51DE-4066-9717-ED0D65FC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7F1-127E-48B0-871B-8780A06E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171F-A167-44FA-909F-FFB3E361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3980-BAAE-4B92-940E-801C6F69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6013-5D30-4008-8B72-C238A06E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D28F-AC06-46F4-A5F9-76C0A018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640C-BAE0-4CE2-BE5D-47B664BC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CA42-09AF-48C1-BB88-ABDA01CD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0E0D-1A31-4CD0-B507-ABDE241C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5EB-F14D-46D8-ADF7-78FBEB96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BF11-D199-476D-BA3C-74F9841C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6827-5B20-4BB5-B116-B4139691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CEFE-CCE5-4F7F-A13D-BDACF439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078D-844D-493B-B76F-7FE2BA9E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C252-D60C-49BD-81C1-CB8A93E8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B03-E6BC-4EFA-A9D0-E40BBF94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CB8-B6AD-42FA-B8DC-01448044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E7B-0C62-49A8-9ACB-7066BC39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D46-C008-4617-AE05-086C5337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C68-4278-44E5-B78B-13B097DD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74C-9260-4103-B1B4-C79EC7C2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136-4B07-4614-9AF0-B86A74E6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9493-1D6E-4E8C-8894-36BAB3D0CE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30AD-0023-4ED8-B715-C311309444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4" name="Picture 4" descr="INTRO#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2895480" y="304920"/>
            <a:ext cx="3657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Progressivism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pton Sinclair / </a:t>
            </a: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The Jung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40" name="Picture 3" descr="the jungle"/>
          <p:cNvPicPr/>
          <p:nvPr/>
        </p:nvPicPr>
        <p:blipFill>
          <a:blip r:embed="rId1"/>
          <a:stretch/>
        </p:blipFill>
        <p:spPr>
          <a:xfrm>
            <a:off x="533520" y="1676520"/>
            <a:ext cx="3652560" cy="48765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4343400" y="266688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Upton Sinclair- book deals with meat-packing industry in Chicag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 aimed at the public’s heart and by accident I hit their stomach”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Pure Food and Drug Act and the Meat Inspection Act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2" name="Picture 5" descr="SIN"/>
          <p:cNvPicPr/>
          <p:nvPr/>
        </p:nvPicPr>
        <p:blipFill>
          <a:blip r:embed="rId2"/>
          <a:stretch/>
        </p:blipFill>
        <p:spPr>
          <a:xfrm>
            <a:off x="5334120" y="152280"/>
            <a:ext cx="335268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rogressive issu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66880" y="1219320"/>
            <a:ext cx="609624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form of industrial practic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nd to child lab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form of electoral syste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cial justic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666880" y="3048120"/>
            <a:ext cx="60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rogressive view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666880" y="3886200"/>
            <a:ext cx="6096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dustrial society exploited the weak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overnment should use its powers to promote social welfare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ivate citizens bear a social responsibility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0" name="Picture 8" descr="nara_childlaborer"/>
          <p:cNvPicPr/>
          <p:nvPr/>
        </p:nvPicPr>
        <p:blipFill>
          <a:blip r:embed="rId1"/>
          <a:stretch/>
        </p:blipFill>
        <p:spPr>
          <a:xfrm>
            <a:off x="0" y="2895480"/>
            <a:ext cx="2666880" cy="1887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Trusts"/>
          <p:cNvPicPr/>
          <p:nvPr/>
        </p:nvPicPr>
        <p:blipFill>
          <a:blip r:embed="rId2"/>
          <a:stretch/>
        </p:blipFill>
        <p:spPr>
          <a:xfrm>
            <a:off x="380880" y="0"/>
            <a:ext cx="221292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180px-1900_New_York_polling_place"/>
          <p:cNvPicPr/>
          <p:nvPr/>
        </p:nvPicPr>
        <p:blipFill>
          <a:blip r:embed="rId3"/>
          <a:stretch/>
        </p:blipFill>
        <p:spPr>
          <a:xfrm>
            <a:off x="152280" y="4876920"/>
            <a:ext cx="24386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23888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bating the</a:t>
            </a:r>
            <a:r>
              <a:rPr b="1" lang="en-US" sz="4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lls of socie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7920" y="18288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safe working condit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ild labor, long hours- in 1900 the average laborer worked over 10 hours a day, 6 days a wee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owded cities, sanitation problem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ap between rich and poor- graduated income tax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880" y="1371600"/>
          <a:ext cx="19861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19861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33520" y="4724280"/>
          <a:ext cx="1773000" cy="18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24280"/>
                    <a:ext cx="177300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3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3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3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3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 Narrow"/>
              </a:rPr>
              <a:t>Who were these reformers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ddle and upper class- 750,000 in 1870 to around 10 million by 1910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ative bor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llege educat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rogressive journalists-muckrackers helped spread the reform messag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lentless on their assaults on social evil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1600200"/>
          <a:ext cx="1838520" cy="13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183852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3505320"/>
          <a:ext cx="351324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05320"/>
                    <a:ext cx="3513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orkplace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16" name="Picture 6" descr="Child Labor in Textile Factory"/>
          <p:cNvPicPr/>
          <p:nvPr/>
        </p:nvPicPr>
        <p:blipFill>
          <a:blip r:embed="rId1"/>
          <a:stretch/>
        </p:blipFill>
        <p:spPr>
          <a:xfrm>
            <a:off x="0" y="1523880"/>
            <a:ext cx="3657600" cy="2724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ine56K"/>
          <p:cNvPicPr/>
          <p:nvPr/>
        </p:nvPicPr>
        <p:blipFill>
          <a:blip r:embed="rId2"/>
          <a:stretch/>
        </p:blipFill>
        <p:spPr>
          <a:xfrm>
            <a:off x="5867280" y="4419720"/>
            <a:ext cx="3043440" cy="2298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april%2022%2006%20image-721152"/>
          <p:cNvPicPr/>
          <p:nvPr/>
        </p:nvPicPr>
        <p:blipFill>
          <a:blip r:embed="rId3"/>
          <a:stretch/>
        </p:blipFill>
        <p:spPr>
          <a:xfrm>
            <a:off x="228600" y="4059360"/>
            <a:ext cx="3581280" cy="279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istockphoto_45305_nickel_no_shadow"/>
          <p:cNvPicPr/>
          <p:nvPr/>
        </p:nvPicPr>
        <p:blipFill>
          <a:blip r:embed="rId4"/>
          <a:stretch/>
        </p:blipFill>
        <p:spPr>
          <a:xfrm>
            <a:off x="6477120" y="152280"/>
            <a:ext cx="3276360" cy="2621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US_Dime_front"/>
          <p:cNvPicPr/>
          <p:nvPr/>
        </p:nvPicPr>
        <p:blipFill>
          <a:blip r:embed="rId5"/>
          <a:stretch/>
        </p:blipFill>
        <p:spPr>
          <a:xfrm>
            <a:off x="6324480" y="228600"/>
            <a:ext cx="1211400" cy="1219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86200" y="137160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hild lab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ow wages for wome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ong working hour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angerous working condit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 minimum wa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hild working in mill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78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rogressives seek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overnment reform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73"/>
                </a:solidFill>
                <a:latin typeface="Arial"/>
              </a:rPr>
              <a:t>check on corporate power- break up bad trus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73"/>
                </a:solidFill>
                <a:latin typeface="Arial"/>
              </a:rPr>
              <a:t>more democracy- suffrage for wom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73"/>
                </a:solidFill>
                <a:latin typeface="Arial"/>
              </a:rPr>
              <a:t>cleaned up cities-better citize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73"/>
                </a:solidFill>
                <a:latin typeface="Arial"/>
              </a:rPr>
              <a:t>enlarging function of government to include housing standards, public health and city plann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5" name="Picture 4" descr="FOREST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49532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6"/>
          <p:cNvSpPr/>
          <p:nvPr/>
        </p:nvSpPr>
        <p:spPr>
          <a:xfrm>
            <a:off x="6172200" y="2666880"/>
            <a:ext cx="76320" cy="76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merican India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42840" y="1143000"/>
            <a:ext cx="6095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rmed the Society of American Indians to address problems and publicize accomplishment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743200" y="28195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frican American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819520" y="3809880"/>
            <a:ext cx="6095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rmed the NAACP to work through the courts for civil right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rmed the Urban League to fight for racial equalit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2" name="Picture 8" descr="NAW11"/>
          <p:cNvPicPr/>
          <p:nvPr/>
        </p:nvPicPr>
        <p:blipFill>
          <a:blip r:embed="rId1"/>
          <a:stretch/>
        </p:blipFill>
        <p:spPr>
          <a:xfrm>
            <a:off x="0" y="609480"/>
            <a:ext cx="2819520" cy="232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NAACP"/>
          <p:cNvPicPr/>
          <p:nvPr/>
        </p:nvPicPr>
        <p:blipFill>
          <a:blip r:embed="rId2"/>
          <a:stretch/>
        </p:blipFill>
        <p:spPr>
          <a:xfrm>
            <a:off x="152280" y="3733920"/>
            <a:ext cx="27147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3356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uckraker’s issu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3356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e30"/>
                </a:solidFill>
                <a:latin typeface="Arial"/>
              </a:rPr>
              <a:t>business corrup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e30"/>
                </a:solidFill>
                <a:latin typeface="Arial"/>
              </a:rPr>
              <a:t>corruption in urban politic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e30"/>
                </a:solidFill>
                <a:latin typeface="Arial"/>
              </a:rPr>
              <a:t>social problems such as slums and child lab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e30"/>
                </a:solidFill>
                <a:latin typeface="Arial"/>
              </a:rPr>
              <a:t>racis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6" name="Picture 6" descr="humanjunk"/>
          <p:cNvPicPr/>
          <p:nvPr/>
        </p:nvPicPr>
        <p:blipFill>
          <a:blip r:embed="rId1"/>
          <a:stretch/>
        </p:blipFill>
        <p:spPr>
          <a:xfrm>
            <a:off x="152280" y="457200"/>
            <a:ext cx="3560760" cy="601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RiisPic"/>
          <p:cNvPicPr/>
          <p:nvPr/>
        </p:nvPicPr>
        <p:blipFill>
          <a:blip r:embed="rId2"/>
          <a:stretch/>
        </p:blipFill>
        <p:spPr>
          <a:xfrm>
            <a:off x="6781680" y="3962520"/>
            <a:ext cx="2129040" cy="2895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TheJimCrowLaws-Front"/>
          <p:cNvPicPr/>
          <p:nvPr/>
        </p:nvPicPr>
        <p:blipFill>
          <a:blip r:embed="rId3"/>
          <a:stretch/>
        </p:blipFill>
        <p:spPr>
          <a:xfrm>
            <a:off x="4114800" y="4484520"/>
            <a:ext cx="205740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3:26:59Z</dcterms:created>
  <dc:creator>Joseph F. DeMarco</dc:creator>
  <dc:description/>
  <dc:language>en-US</dc:language>
  <cp:lastModifiedBy>Student</cp:lastModifiedBy>
  <dcterms:modified xsi:type="dcterms:W3CDTF">2011-05-04T15:00:37Z</dcterms:modified>
  <cp:revision>37</cp:revision>
  <dc:subject/>
  <dc:title>Progressiv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9305790</vt:r8>
  </property>
  <property fmtid="{D5CDD505-2E9C-101B-9397-08002B2CF9AE}" pid="3" name="_AuthorEmail">
    <vt:lpwstr>drodman@eustace.org</vt:lpwstr>
  </property>
  <property fmtid="{D5CDD505-2E9C-101B-9397-08002B2CF9AE}" pid="4" name="_AuthorEmailDisplayName">
    <vt:lpwstr>Doug Rodman</vt:lpwstr>
  </property>
  <property fmtid="{D5CDD505-2E9C-101B-9397-08002B2CF9AE}" pid="5" name="_EmailSubject">
    <vt:lpwstr>Chapter 18 Large Group</vt:lpwstr>
  </property>
</Properties>
</file>